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66B-55FC-4151-9C44-71C47783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8EA-ECFA-476F-B307-3F576959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235-7891-4185-970E-1A52F46F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658-AE2F-4982-B8D0-326C8F8C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025-CFC2-49B8-9146-F98CB91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87E-DBE0-4ADF-874A-D42EC709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AEE-A421-49FD-BE2D-D2245B86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90F-F543-41E2-9BDE-98C5CFB0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D55-4BF5-4DF2-8488-3C2C8C99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861-270B-4714-8084-EAB496F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F3E-546A-41F5-AAD6-0F2BA07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2CD-6488-44E5-A956-FCDAF36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3293-94BA-42B8-B0C5-6143E9F23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6840" y="76212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D Monitoring on Rotating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1752480"/>
          <a:ext cx="754380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752480"/>
                    <a:ext cx="75438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11-09T07:30:04Z</cp:lastPrinted>
  <dcterms:modified xsi:type="dcterms:W3CDTF">2000-11-09T07:34:32Z</dcterms:modified>
  <cp:revision>72</cp:revision>
  <dc:subject/>
  <dc:title>Kein Folientitel</dc:title>
</cp:coreProperties>
</file>