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681788" cy="9817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4A20-2E0C-4029-8244-EB0AAE6C8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02F9-222A-44C4-95E5-6128C346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9D02-A33A-457B-A6FC-60AB72C6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8349-BD0E-4924-A01F-B10F7F2D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85B7-7008-4C83-A965-D131B5CE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B385-61C5-4F80-A4D5-37B9A182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D2AD-450E-4621-838C-21B8EED6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B853-034D-4B20-8B8E-93D351E8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A3AD-8656-40D5-9E57-856BB973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C126-1004-44AB-95E5-694EBA4C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2845-B95B-43DD-94BB-13B5BE7E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3533-A588-46D6-9BAE-674DF48F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28FA-A4E3-4300-BB7C-D16C19340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56840" y="762120"/>
            <a:ext cx="55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D Monitoring on Rotating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828800" y="1676520"/>
          <a:ext cx="6516720" cy="44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1676520"/>
                    <a:ext cx="651672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2T09:29:16Z</dcterms:created>
  <dc:creator>Strehl</dc:creator>
  <dc:description/>
  <dc:language>en-US</dc:language>
  <cp:lastModifiedBy>ldic</cp:lastModifiedBy>
  <cp:lastPrinted>2000-11-09T07:39:38Z</cp:lastPrinted>
  <dcterms:modified xsi:type="dcterms:W3CDTF">2000-11-09T07:39:51Z</dcterms:modified>
  <cp:revision>73</cp:revision>
  <dc:subject/>
  <dc:title>Kein Folientitel</dc:title>
</cp:coreProperties>
</file>