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A68-FAA5-44F5-BCEC-57431E9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ECE-7E67-483A-9D8B-7B5BCDB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34A-569F-4836-9CED-5D57728F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8D3-9ADD-4DD4-BF04-58FF735A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A46-5A88-4C7B-958C-E28573A2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C0B-FECC-4A97-8E89-060A056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805-1B46-4F10-8A57-A173D2F5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681-6816-4838-8E57-D360207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460-DF4A-4462-9A28-6970B41B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F69-490E-44A5-8870-ED68F13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DE2-8619-4E0F-9F93-56ACCC5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F27-E938-43ED-BC91-02635CB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E02-E5F6-4532-A9C3-030ACEE9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858000" cy="410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2200" y="533520"/>
            <a:ext cx="64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ordnung der einzelnen Phasenbereiche b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TE-Messung 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676520"/>
          <a:ext cx="6745320" cy="419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76520"/>
                    <a:ext cx="674532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454400" y="76212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Kenngrößen für verschiedene Betriebszu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ARBVERL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2438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209680"/>
          <a:ext cx="76960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09680"/>
                    <a:ext cx="7696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444040" y="60948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- und Nachteile diagnostis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line und off-line TE-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09680" y="1792440"/>
          <a:ext cx="5486400" cy="42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792440"/>
                    <a:ext cx="548640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07400" y="762120"/>
            <a:ext cx="68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ß der Koppel- und Statorwicklungskapaz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20:14Z</cp:lastPrinted>
  <dcterms:modified xsi:type="dcterms:W3CDTF">2000-06-22T08:01:12Z</dcterms:modified>
  <cp:revision>71</cp:revision>
  <dc:subject/>
  <dc:title>Kein Folientitel</dc:title>
</cp:coreProperties>
</file>