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907588" cy="6858000"/>
  <p:notesSz cx="6681788" cy="9817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FC15-6BFB-478E-BC01-A5ACF6B29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E9B2-560B-4F71-B8E7-FFC5926E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EFA5-C75F-4456-8862-DFDE1F509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434A-A595-42BE-9C96-3899687E7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3658-0D6F-4BAB-9976-948E3A99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66AE-115A-473A-9121-92E6AB25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2EAA-827D-4163-A7F5-D4C4685B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9A4E-B50B-4497-93EF-3CABD70C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23C5-90D8-4B4F-80B8-C1FDE22B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474B-CCF7-4845-B244-1215D7C7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BBCD-C7C8-43F7-AB3C-080401A6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0327-82EE-457B-9212-AB74097C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E51D-95D3-4E86-9036-AA7F58A00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8120" y="685800"/>
            <a:ext cx="67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pulsausbreitung in einer rotierenden Mas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743200" y="1690560"/>
          <a:ext cx="4952880" cy="453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690560"/>
                    <a:ext cx="4952880" cy="45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981080" y="1752480"/>
            <a:ext cx="5943600" cy="4318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139120" y="533520"/>
            <a:ext cx="576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-Pegel als Funktion der Prüfspannu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 einer fehlerhaften Stator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5105520" cy="43736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836720" y="685800"/>
            <a:ext cx="63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äufigkeitsverteilung als Funktion der La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37440" y="762120"/>
            <a:ext cx="62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gleich der verschiedenen Auskoppela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057400" y="1905120"/>
            <a:ext cx="585468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46200" y="762120"/>
            <a:ext cx="481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ppelwege im Wickelkopfbere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057400" y="1752480"/>
          <a:ext cx="5729400" cy="433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1752480"/>
                    <a:ext cx="5729400" cy="43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96320" y="762120"/>
            <a:ext cx="49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tquerschnitt einer Statorwick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100320" y="1676520"/>
          <a:ext cx="3828960" cy="44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00320" y="1676520"/>
                    <a:ext cx="382896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57880" y="685800"/>
            <a:ext cx="65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olaritätsverhalten der Impulshäufigkeit von 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209680" y="1905120"/>
            <a:ext cx="550404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0400" y="685800"/>
            <a:ext cx="832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rmische Ausdehnung der Wicklung und des Blechpa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23880" y="2133720"/>
          <a:ext cx="7086600" cy="347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2133720"/>
                    <a:ext cx="708660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5160" y="685800"/>
            <a:ext cx="86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ld-Sensoren zur TE-Auskopplung an rotierenden Masch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295280" y="2133720"/>
          <a:ext cx="7174080" cy="335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2133720"/>
                    <a:ext cx="717408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87560" y="609480"/>
            <a:ext cx="585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-Auskopplung mit induktiven Senso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 rotierenden Masch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19320" y="2209680"/>
          <a:ext cx="7508880" cy="375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209680"/>
                    <a:ext cx="750888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209680" y="1600200"/>
          <a:ext cx="5257800" cy="455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600200"/>
                    <a:ext cx="525780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1608480" y="685800"/>
            <a:ext cx="68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hlstellenortung durch elektrische Feldsens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07280" y="685800"/>
            <a:ext cx="62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örproblematik bei der TE-Messung Vor-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38320" y="4648320"/>
            <a:ext cx="2144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 schmalbandi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undfunk- 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mmunikations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2133720"/>
            <a:ext cx="990360" cy="3045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ör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03280" y="4648320"/>
            <a:ext cx="4714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 Leistungselektronik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- Schalthandl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Wechselrichter, ...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- Lichtbogenstör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 Äußere Teilentlad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Korona - Gleitentladung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47080" y="445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57800" y="3124080"/>
            <a:ext cx="11430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pulsförm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3124080"/>
            <a:ext cx="10666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nusförm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14800" y="4038480"/>
            <a:ext cx="10666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iodi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4038480"/>
            <a:ext cx="10666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ochasti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28195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2438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38098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34320" y="3809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3809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913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20360" y="685800"/>
            <a:ext cx="49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rategie der TE-Signalauswer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828800" y="1828800"/>
          <a:ext cx="6276960" cy="412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1828800"/>
                    <a:ext cx="6276960" cy="41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2209680"/>
            <a:ext cx="7467480" cy="3581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301760" y="685800"/>
            <a:ext cx="74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-Verhalten einer Statorwicklung mit Isolationsfeh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981080" y="1828800"/>
          <a:ext cx="5867640" cy="424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1828800"/>
                    <a:ext cx="5867640" cy="42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1836720" y="685800"/>
            <a:ext cx="63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äufigkeitsverteilung als Funktion der La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143000" y="2057400"/>
            <a:ext cx="7620120" cy="3581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69320" y="685800"/>
            <a:ext cx="83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-Verhalten einer Statorwicklung mit einem Isolationsfeh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2T09:29:16Z</dcterms:created>
  <dc:creator>Strehl</dc:creator>
  <dc:description/>
  <dc:language>en-US</dc:language>
  <cp:lastModifiedBy>ldic</cp:lastModifiedBy>
  <cp:lastPrinted>2000-06-21T06:20:14Z</cp:lastPrinted>
  <dcterms:modified xsi:type="dcterms:W3CDTF">2000-06-22T07:59:49Z</dcterms:modified>
  <cp:revision>71</cp:revision>
  <dc:subject/>
  <dc:title>Kein Folientitel</dc:title>
</cp:coreProperties>
</file>