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9.png" ContentType="image/png"/>
  <Override PartName="/ppt/media/image15.wmf" ContentType="image/x-wmf"/>
  <Override PartName="/ppt/media/image14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710363" cy="9445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3C5-F7B4-416F-861F-2CA7F715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B67-2000-48EC-9917-759419FC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C5C-B509-45B2-B043-B2D67F9B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777-CA2C-40AA-B0FE-C73972BC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955-618F-4501-A508-CD6A552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1A3-90F2-4D12-A440-EC2FF8F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5C9-FA45-4D70-8915-3BA2DDEB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E80-0984-4CC3-9910-BF26F8DF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6E8-799C-4DE1-8011-11A9846A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43D-E35D-4F3C-AF63-2E7CB7F3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20E-2EA9-40A3-AF70-C140BCB8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572-DB94-4A26-B894-D660D624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7C31-D21D-4496-904E-3A7463999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0160" y="499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43000" y="1744560"/>
          <a:ext cx="7543800" cy="29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44560"/>
                    <a:ext cx="7543800" cy="29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884960" y="5062680"/>
            <a:ext cx="338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voltage level (2*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time in the range of  10 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time in the range of 1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0960" y="685800"/>
            <a:ext cx="80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e Parameters of the transient CDA-Test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DLOG-G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19520" y="1600200"/>
          <a:ext cx="9459720" cy="46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600200"/>
                    <a:ext cx="945972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517840" y="762120"/>
            <a:ext cx="48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shape of CDA tes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51520" y="68580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 diagram of the complete CDA test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19320" y="2048040"/>
          <a:ext cx="7391160" cy="39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048040"/>
                    <a:ext cx="7391160" cy="39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-CDA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945400" cy="442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42240" y="76212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Diagram of the PD-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DLOG-G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2-CDA" descr=""/>
          <p:cNvPicPr/>
          <p:nvPr/>
        </p:nvPicPr>
        <p:blipFill>
          <a:blip r:embed="rId1"/>
          <a:stretch/>
        </p:blipFill>
        <p:spPr>
          <a:xfrm>
            <a:off x="1981080" y="1695600"/>
            <a:ext cx="6021360" cy="448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91600" y="66204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reflectogram of a single PD-Im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DLOG-G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3640" y="72540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-Faults on XLPE-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609624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0962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LDLOG-G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4840" y="533520"/>
            <a:ext cx="25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D-Imperf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n a 20 kV-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E-FEHL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7820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RINZI~2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696080" cy="409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32360" y="7254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-Measuring Circuit for the CDA-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3800" y="4584600"/>
            <a:ext cx="777852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6040" y="4583160"/>
            <a:ext cx="2513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Cabl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Coupling 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Measuring Impe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HV Blocking Impe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C A/D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    Partial Discharge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(t)  Test voltage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5680" y="4583160"/>
            <a:ext cx="363744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Computer Based Analyzing System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 measurement and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voltage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DLOG-G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53352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graph of a void in PMMA at CDA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oth polarities (upper) and 50 Hz test voltage (l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57680" y="3957480"/>
            <a:ext cx="2320920" cy="209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56160" y="1798560"/>
            <a:ext cx="2317680" cy="2079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081160" y="1798560"/>
            <a:ext cx="2322720" cy="2078280"/>
          </a:xfrm>
          <a:prstGeom prst="rect">
            <a:avLst/>
          </a:prstGeom>
          <a:ln w="0">
            <a:noFill/>
          </a:ln>
        </p:spPr>
      </p:pic>
      <p:pic>
        <p:nvPicPr>
          <p:cNvPr id="106" name="LDLOG-G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4840" y="53352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pattern of a void in PMMA at CDA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oth polarities (upper) and 50 Hz test voltage (l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79640" y="1798560"/>
            <a:ext cx="3797280" cy="2071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73480" y="1798560"/>
            <a:ext cx="3791160" cy="208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130560" y="3957480"/>
            <a:ext cx="3782880" cy="2087640"/>
          </a:xfrm>
          <a:prstGeom prst="rect">
            <a:avLst/>
          </a:prstGeom>
          <a:ln w="0">
            <a:noFill/>
          </a:ln>
        </p:spPr>
      </p:pic>
      <p:pic>
        <p:nvPicPr>
          <p:cNvPr id="115" name="LDLOG-G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Windows98 OSR2</cp:lastModifiedBy>
  <cp:lastPrinted>1999-08-26T08:51:04Z</cp:lastPrinted>
  <dcterms:modified xsi:type="dcterms:W3CDTF">2000-03-02T04:40:04Z</dcterms:modified>
  <cp:revision>118</cp:revision>
  <dc:subject/>
  <dc:title>Kein Folientitel</dc:title>
</cp:coreProperties>
</file>